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5C9FB-CD1C-4181-A94A-8422524168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C8E4B-B16C-497A-BA49-EC6D912AE7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rbhs-sbi3u03.wikispaces.com/12.5+Transport+in+Vascular+Pl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ECFCB-80EA-4F5C-8494-C06BA291C8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uic.edu/classes/bios/bios100/lectf03am/translocation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811DF-E6B8-4E92-BA25-ED3C2DAD33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uic.edu/classes/bios/bios100/lectf03am/phloem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2B99C-9B2F-4473-B6C2-8F56B5021E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uic.edu/classes/bios/bios100/lectf03am/translocation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0E2BA-0218-4867-9834-51AE019FCD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britannica.com/EBchecked/topic/623731/vascular-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335CE-8470-47FE-8DDF-B51714D7AC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alevelnotes.com/Cell-Specialisation-and-Organism-Organisation/150?tree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E0AC9-918E-428E-8E3B-51C7855917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studentry.sg/2013/02/05/health-water-is-great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19521-7C02-4B75-BDB7-B4044A4084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science.howstuffworks.com/dictionary/plant-terms/root-info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s://www.studyblue.com/notes/note/n/biology-chapter-3-test/deck/252480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B39B6-304D-4EE9-B1C3-00EC666293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62C87-96CD-462E-A5D3-296A8D80B6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4fcorner.files.wordpress.com/2013/03/img_62231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1F480-8380-411A-AC3B-1A712F9C1E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commons.wikimedia.org/wiki/File:Acer-saccharinum-leaves-e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C65BB-AD40-49B5-B580-8EC20E7EF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9F4C1-99CF-4B14-AF2F-1C3DDCBB0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D2EDB-79AB-46D0-A223-7B4347502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0F5F0-BAA2-4D91-A1DD-449DEFF10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BFF39-1A74-4BD9-94B9-5040CADD7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43608-E077-414B-9B8E-C9F4B57CC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9E62F-3AD3-4185-B6BC-16AD6269A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DEC10-7178-4BF9-A015-6DB16D5A3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100CE-01CB-4FC3-AA8B-F7FCB01A1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459A9-C8E1-4C38-9303-71B7CEFD4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5B300-8EE4-4485-9535-C4EBC979D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F2B14-3068-4B04-AE87-97D7FFC46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CAA01-335B-4D7A-819C-630BFB37D0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nsport in Vascular Pla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2.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urce to Phlo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3276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 transport of sug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ter moves into phloem through osmo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translocation"/>
          <p:cNvPicPr/>
          <p:nvPr/>
        </p:nvPicPr>
        <p:blipFill>
          <a:blip r:embed="rId1"/>
          <a:stretch/>
        </p:blipFill>
        <p:spPr>
          <a:xfrm>
            <a:off x="3886200" y="2170080"/>
            <a:ext cx="4876920" cy="365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nsport through Phlo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ransloc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long-distance transport of substances through the phloem (living cel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5" descr="phloem"/>
          <p:cNvPicPr/>
          <p:nvPr/>
        </p:nvPicPr>
        <p:blipFill>
          <a:blip r:embed="rId1"/>
          <a:stretch/>
        </p:blipFill>
        <p:spPr>
          <a:xfrm>
            <a:off x="4419720" y="2379600"/>
            <a:ext cx="4419360" cy="33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loem to Sin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048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gars diffuse from phlo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ter moves out to the xy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5" descr="translocation"/>
          <p:cNvPicPr/>
          <p:nvPr/>
        </p:nvPicPr>
        <p:blipFill>
          <a:blip r:embed="rId1"/>
          <a:stretch/>
        </p:blipFill>
        <p:spPr>
          <a:xfrm>
            <a:off x="3886200" y="2170080"/>
            <a:ext cx="4876920" cy="365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scular Tiss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yle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ransports soil water &amp; nutri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hloe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ransports sug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5602-004-2C2C2DD3"/>
          <p:cNvPicPr/>
          <p:nvPr/>
        </p:nvPicPr>
        <p:blipFill>
          <a:blip r:embed="rId1"/>
          <a:stretch/>
        </p:blipFill>
        <p:spPr>
          <a:xfrm>
            <a:off x="4419720" y="2111400"/>
            <a:ext cx="4495680" cy="38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5" descr="xylem_phloem"/>
          <p:cNvPicPr/>
          <p:nvPr/>
        </p:nvPicPr>
        <p:blipFill>
          <a:blip r:embed="rId1"/>
          <a:stretch/>
        </p:blipFill>
        <p:spPr>
          <a:xfrm>
            <a:off x="1552680" y="609480"/>
            <a:ext cx="60386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409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nsport of Water &amp; Nutri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nsport into the Roo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ter moves by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osmo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trients move by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ctiv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transpor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requires energ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5" descr="root-info1"/>
          <p:cNvPicPr/>
          <p:nvPr/>
        </p:nvPicPr>
        <p:blipFill>
          <a:blip r:embed="rId1"/>
          <a:stretch/>
        </p:blipFill>
        <p:spPr>
          <a:xfrm>
            <a:off x="5221440" y="1676520"/>
            <a:ext cx="258732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sparian stri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Content Placeholder 9" descr="inner_layer_of_cortex1332638357094.png"/>
          <p:cNvPicPr/>
          <p:nvPr/>
        </p:nvPicPr>
        <p:blipFill>
          <a:blip r:embed="rId1"/>
          <a:srcRect l="-19627" t="0" r="-19627" b="0"/>
          <a:stretch/>
        </p:blipFill>
        <p:spPr>
          <a:xfrm>
            <a:off x="324000" y="1844640"/>
            <a:ext cx="842472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nsport into the 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ylem sap moves upward due 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oo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ess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from nutrients moving into the root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pillar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5" descr="img_62231"/>
          <p:cNvPicPr/>
          <p:nvPr/>
        </p:nvPicPr>
        <p:blipFill>
          <a:blip r:embed="rId1"/>
          <a:stretch/>
        </p:blipFill>
        <p:spPr>
          <a:xfrm>
            <a:off x="4838760" y="1600200"/>
            <a:ext cx="3657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nsport to the Lea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ranspir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evaporation of water) pulls water up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5" descr="Acer-saccharinum-leaves-e"/>
          <p:cNvPicPr/>
          <p:nvPr/>
        </p:nvPicPr>
        <p:blipFill>
          <a:blip r:embed="rId1"/>
          <a:stretch/>
        </p:blipFill>
        <p:spPr>
          <a:xfrm>
            <a:off x="4343400" y="2252520"/>
            <a:ext cx="4267080" cy="34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nsport of Suga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ur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any cell with a high concentration of sug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n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any cell with a low concentration of sug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cation of source &amp; sink cells may change depending on stage or sea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03T09:59:45Z</dcterms:created>
  <dc:creator>rubina khan</dc:creator>
  <dc:description/>
  <dc:language>en-US</dc:language>
  <cp:lastModifiedBy>rubina khan</cp:lastModifiedBy>
  <dcterms:modified xsi:type="dcterms:W3CDTF">2016-11-24T16:15:58Z</dcterms:modified>
  <cp:revision>46</cp:revision>
  <dc:subject/>
  <dc:title>PowerPoint Presentation</dc:title>
</cp:coreProperties>
</file>